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064BEA-0218-4193-A3BB-7A72CA07810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671765-807D-45EF-A598-241B6B9F76A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958E30-A96F-4715-B178-EA817E72790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EA1D12-7BD3-4F4D-98C3-27A21B0E576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673657-80C5-4FF6-A602-A8A39C780AC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DDAA3D-A39C-4955-84C7-FA9AC12AE2B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605B25-EE95-4592-BFDB-DE58C69E983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A365CB-D55A-462E-AD70-3549A217C99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57BB80-E6DD-41D4-98D9-F23ED80976D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D81903-286B-4AF9-A530-894237E146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72DCAC-F494-4825-81D1-DC6365C34A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8CA3F0-445A-4734-88E0-D7431DB906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9A6D20-AA6D-42AB-A1C9-4DD74C4461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4E10CE-E841-4709-B4B6-6AE7DF5FE1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6B84DC-22AD-47A3-AEB2-9E635786ED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874097-7829-4FFC-A1AC-A3C32EEB15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18F579-CFA3-4457-AF15-762D9E6933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F78E30-4625-427A-ABF9-2248E1C067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3948AF-6989-4CC9-A4AF-3997310974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3E5DE9-A36B-4C45-AEC0-6BD6873B1B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714FBC-E380-4ED4-BA93-719C7FC115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DB8BD-E6A4-42BE-85B1-F63FA3FE8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774D0E52-60EC-48C8-B8E0-482D42E9634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88EDF2F-E7AB-4631-A802-B9EDED36F0C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5132AFC-30E0-4FD3-A041-9978C5F014F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E420385-F56F-491B-AAE0-8FB917BC705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FF45048-0CEB-4C08-B091-B4CFDB7AA9F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BA4C42B-1B69-41BC-9056-AC83D24D9C0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1423817-0B07-4C35-B656-478AB7E507F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D9FEF-0E06-406E-ADA5-D3A6C5273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EC126CE-D8B3-45DB-88EC-9CD17A4B687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676C355-D07B-471F-AE5D-89737693C30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C6CB444-B68A-4CD4-82FD-B9467E613C9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E75C60A-E58A-45EA-BFBF-E8ECDC76C61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8325B4F-7346-457C-9FA3-2B026F9A98C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7E08CE17-E3C6-4CB1-A1ED-7DBD63B7F5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F35BA7A-4AB5-4054-9F1C-96CFE3140A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27C2701-0236-4322-9435-C0966DE082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EE6190D-7C63-40C0-8974-724C202025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5708DDF-DE18-4364-BA6C-5723A6EF42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1BDEB-E629-4B73-BC1B-68D26C9B6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24728B0-77A4-4F56-B70A-91E72E95AC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5DE4B63-B855-4CDF-BA07-9542F06265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02707F1-EE33-4903-AE6F-D6BC17B1C2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A26D544-DD66-423F-AD2F-19B454ADDD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A36C80D-5A9A-44EC-8436-8AE05D732C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37B71F0D-5976-4DE9-945F-446D41A760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8197290A-709E-4955-AB93-597DB625BE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75956747-C138-4642-BFC4-5E48DFFD71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48FCD1F-B0E6-4B57-99BA-CC4A137B2F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56A6100-8D13-4911-BEB8-897F1D0590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5AE96-70A3-4715-B86F-C15CF666F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FD2AA07-CF59-4851-A361-775BE946F5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FCF4A53-3656-43C8-AC78-DF04541166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17D5601-C096-479E-A655-ABB171D04A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180665A-3B07-4484-9F3A-C85B59FD06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7D485BB-44C5-48F7-B7A7-4296412274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6088488-EB5A-45A6-8E2B-3AEB7EF66C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173C665-94F0-461B-921F-718D8018C1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FFB538E-C114-4FA9-8524-8BDFFD5E11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731FFA8D-0741-42EF-B37A-42BEC89A80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0AC68954-E5D5-4FAC-8E24-9C8B03B2FB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8E527-28E1-4F45-925D-EA24988D6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D68B6C8-F638-48F8-92CA-CCA0102921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2CF97EB-B9C3-4414-85EE-0874AE6802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23CF196-5A8F-471A-97C7-C7C9B0F3D3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B9E9525-37BC-4DE7-88DF-9C555B27B1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3E84548-3CC3-4DC9-8840-7822D8AE46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71DF2FF-00E1-433A-AF9A-0B036F4D7F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329D83F-7C36-46C0-919F-61815C28D6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0C72E16-AF9C-4C97-A964-6B6157DD6E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449FBD9-594F-40EE-88C8-F91135DE6C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AA802B9-6AF2-4C45-B4FF-1141893A8C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16232-73FE-414D-8EAF-E1880E0CD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01049DE9-EE52-4256-8A32-DFDDC02E26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FA33E16-FFB6-4A97-B9AD-55B1356CECE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183A908-3A44-4B6D-AF21-9E197CD79D1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C9D4AFB-FEA0-41D4-A53B-C18887F1125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E31D7E-DED8-4293-A820-4D075E55DE3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15BA04D-B3CF-4957-96AF-7553B760C3D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CAE8C0-5A6F-4FD1-B1DB-668A3C9CE66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C10F44-9D14-4036-8DDF-CDA81CD54BE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CD94D2-6056-4CFD-B79D-A1D99E0BC87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AA0699-BC29-4F26-AB8E-036AFB7CF0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04DC0-D367-4F71-81E8-4287F8B86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4321B37-AE3D-4E87-8FCB-A6FF44E7C71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210822A-B1F4-41AB-B6D2-727589B62030}"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4EE3941-77FA-42C4-B570-F6060E519A8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5068744C-92A3-4207-B34F-98482D4F840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9571E8BA-3D1B-4446-B400-4C33C7DC42B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C8C16E2-D987-4519-A341-6DD3309D9FC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BA84809-1D6F-453A-BBAF-E4EA0A9033B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EB6E2AC-B709-4715-9811-A39B8B1AA96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9994D432-BF32-4C61-80E0-6C31E19DDE6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A17A00C-F61A-4CAE-B95D-988B3ABEC8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DE1B4-F7D9-4ED2-B83D-DBA65C14F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1B2E855-8138-4A5B-BC3D-543F62831CF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B3E448D-EC05-403F-AD83-0D0BE29240F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95A341B-2EA5-40F8-A705-A1D97CE17C1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B304500F-518A-4680-A695-3E38F310E7A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07243BB6-797C-4F01-9D4E-369F6DC41A0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BAA5C421-9FA7-4316-BE53-00947E143257}"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F640C63-F0D1-43EB-AE62-F7B17F40AB04}"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F236757-64AF-46D5-8B60-D84AE003207E}"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C32BBADC-98F5-47EA-AAF1-71F80344D9C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5D83E911-CADB-40D3-964D-857CB52FD0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FE119-26C3-4668-9E5A-8941DAD2D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921D851-7CA9-42F3-AC6D-F4F17FE52FD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0EBC810-CD00-4E97-89B4-84B71D39D23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0879746-59C9-4F65-8C88-01335BA6A949}"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84832DA-5FEB-44DB-B3EE-EFA5813CE71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D5ADEB0-CA15-423D-A488-3EF613BEDA3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BB38EA31-1188-4800-8017-1B99B42443F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7ACCAA36-5E0A-4F3F-8EE3-4DEF92E77FFF}"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40B38A25-27F1-40FE-A296-906437B0B3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14BDB5A-931F-4579-A7FE-48AAAAC4AD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C3E2F874-5A5A-4497-8026-55C3389C53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831AC-97BD-474D-96D0-1E5FA4F45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7B4F8707-A87F-4EF1-A11C-03F0018396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B461C812-B7C4-41FB-819C-614BF003B1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A5BCF0C-48D3-4AE0-B29D-AEC4E73780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E90D864-1105-4D2C-A284-3D40EFFCAF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DB01CB5-E178-4C54-9827-9E876A5066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3DBD668-719B-42CE-83CD-E1CD8E22CD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74A50736-D824-4E4E-80AC-1C968A6780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5983C80E-2C9A-4804-B34F-21C6603E49E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CAE28953-D7A8-40A5-B992-A5DB03E0BD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69679-C492-47C1-929D-C58ECE78A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9805B-9453-4386-B4CC-663C02DDD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6577B-2873-42C4-89C6-598C035DE2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0EB5A-1420-4894-AD41-5974F9CB5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AE4AD-1662-43D7-A08E-10CCF6828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AA39A-F04F-42E2-8D90-465E9C917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365F5-5C72-469A-96DC-33F820DD6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7B652-9188-4DD7-B44F-6B85B080C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1BD3B-49A9-4141-9B52-FB888DAF2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D7A35-B210-4484-AF93-65D2739EC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064A1-DD39-4661-813B-80F0E3FA8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FB745-D9A0-4B40-ABC7-F577AD520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482E6-21CB-4EAE-9C25-A905880EC0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A07A49-762C-49C1-A312-1E6AEA1FFC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068A8D-6A28-438C-8956-740252D085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5124FD-6DF4-4EF7-9F5D-D0140E3F3C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EC47C1-440D-4300-A2AE-84250CBDFB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39E1D3-5794-4730-85FE-8BA2F5843A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796EFE-B90F-4A5B-9454-50EB05D96C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4F3551-F37B-44EF-89FF-85E2E66243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3F8240-96B1-4AF9-AC12-C64D3ADA07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EADE2F-5021-49EA-ABA8-ED81AB91A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41E1D8-26DA-4053-BEA5-52D34CC67B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8F1A53-8108-4671-B4D4-7A8561FEF9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CDB86E-3E56-444A-9938-5E3E936532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8D498B-038A-4868-917A-B94A47D078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BFDDB9-6747-4740-A6A3-D9F12D3574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2A567C-C58E-4A9F-B7B8-19E6F42125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56169B-4196-4367-B95A-DCDF90C66B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65A025-BE95-4CB7-B4E9-DADA741710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E6B910-66CB-407E-A0FA-E96095D3F5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21F3EE-F5CD-4CC9-A04F-D83CF03ED4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4A3115-B077-4DF2-8937-7865B38575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872CF5-3AC0-4580-B5AA-8AFBC8DAB9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D3A45A-A77F-4D73-9152-359C5080F6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B2497F-F7E3-439F-A84D-DC680A157D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26CA66-3BEF-4BE4-8EA7-891DC93A69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2A1BB7-0601-4FE5-8523-7C5C93F4EB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5C15AA-0FD6-4A45-95D8-047F19E584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78F634-C7AB-4F07-B9E3-AE1E7219A8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60FC2D-BBEF-4A1A-9B6F-FB1C7EEDD2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BD4C88-E93C-457A-9EB5-ED3074A652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87F14B-B1BE-430B-B4D6-96D24AC435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022386-F964-4DA5-A7D5-FBB58B2682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EF59E6-5144-4959-A926-150BCF1B6B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88FC84-154B-4837-947A-103279A88D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67E2A4-C208-4C83-9A81-22F0DCA303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18C4B8-D6BC-4BFC-989A-77C23559BC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C9879B-06EE-470F-B3E0-5CFEFC78A2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2542D1-F45C-4C98-95C1-B533D723D9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CBA544D-38B9-4A0D-BF09-FCF574D146B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4949441-9904-4E2E-AEF3-70F0F165B5C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94409AD-5043-4D1F-8230-F03DABA058B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9DFBC04-14D7-4940-9F61-2D2B2AE0762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603E331-A614-47C8-9D69-25443DF532F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43AFFA0-232E-4C78-B085-136B7D24437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A1B9EEA-DCE1-4ACC-A0FD-E6553301EB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E25C10A-EFBF-4674-99CD-4F84DD0880C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41D698D-AC2C-48AD-AC10-CACC2CE7F63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BB38165-79D7-42D4-BB3E-12659659E8D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5A43E48-95C2-4094-80AE-BE9EDE767E8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75141BA-4D1D-410A-8CEF-0AB3502A49B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F9C1DA8-79D2-4E37-B4EE-9EE929F182E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C1F145E-68C7-4FC7-BF10-A272F98563A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3314900-88F9-41D3-AB4D-EF4C861745C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AC29DA8-4738-4E90-9ABD-1B23C92C816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999879B-420E-4BC3-B68A-69BE2D5313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BCB25F6-997D-4F79-B618-8DAEB4BDC07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41F1497-C33B-4A8A-82DF-79C45FA30AC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A033E9D-E357-4151-8CA6-901DF558B3C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9E1BEFB-A28F-40E3-9CE9-5C305016FCA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846EC0B-4A0E-4FCA-98FD-F2F383D9F8F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0912C49-CD47-45A4-AB10-E8D56E74006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3CD527A-585A-409D-AAA7-DA49E56F1C6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82B03A-120D-4156-B7AC-BF6A8F0A014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606ED3-9F22-4C2D-8E27-707192C755A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68BE57-5352-4E37-8D6D-8240402D36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2CA9-B6F6-4897-97F2-7A5D7F430D50}"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5D5C-2227-4EC1-90DB-17C06619D1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CB5B1-D760-433B-A496-C31FDE29034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7833-5BB0-4169-9B57-1631DAC404C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4CAF-28E3-42DB-80D9-BA978CA213E0}"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1E87-9C5B-445F-BA73-EB3E0A0F55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34E11-F9E0-44B1-A12C-592E027071B6}"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165E-3156-499E-9197-0F31E4FB834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05A3-A140-4A73-9F8E-CB905D04537D}"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F1E6-DDD7-43C7-B287-C1F20D7D8F9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42A89-DB94-4A8F-BF94-710EB9F8394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A404-4768-4468-8462-B356C0F588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5B6A-BE7E-45F4-ADCD-5CFAC31DA6F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EDF22-F012-4F53-95A8-D5B82F86C941}"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9259-D9CB-4907-B96A-2A5020F8EAC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1EDC-D5F0-4C48-8B2C-9CE4FD0122D3}"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D3A0-A06D-4C02-B611-38AF45B4A4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8617D-64FD-4C03-8118-F6B115606DD6}"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31B4-7FE6-43EF-B100-A51DC51BB8D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AA5F6-DBE3-4554-9824-B84F0B5E2807}"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6437-CC1B-42E6-9E8D-CA57D39E5E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C934-1B57-49FB-868C-16251113DDB3}"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D03C-DEDF-4C99-B872-64267CFE02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22A5-FFCF-43B4-90B2-8E499F6FA6E9}" type="datetime">
              <a:rPr b="0" lang="en-US" sz="2400" spc="-1" strike="noStrike">
                <a:solidFill>
                  <a:srgbClr val="000000"/>
                </a:solidFill>
                <a:latin typeface="Times New Roman"/>
              </a:rPr>
              <a:t>07/30/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CEC1-EEA6-4B2B-915D-C4C2D5F8D9B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D99D-1D1F-4D2E-8BF7-0C4A9AEC3FE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C947-A7A0-4767-9F74-AB4179140A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D47D-FBEB-4EA4-9DD9-028BD00902C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